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97F-C9B9-4070-BE91-EF71F958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F1C-C84B-4C9A-9920-991B8133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32E-6A05-4DBE-B703-8123B56A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0AD-A549-4408-A4E8-7A171DD2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EE9E-53ED-4C83-9630-16D31D52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142D-C81E-4758-A504-ADC8BDDA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6DD8-7573-46F9-B5A2-72F5F004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58E6-9419-4D43-BFF5-1163761D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2ED6-CF99-4732-B769-A2B852E3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1534-1457-47CE-AD3B-9E92D870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AE05-B6C8-4EC1-9072-585495F7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91B-866F-4339-A709-A1268139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08B8-1D22-4F6B-A25C-81F60D07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B109-61A7-4578-9512-16D32559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E59A-8886-452E-A024-F8BC7535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E96C-EA0A-4C3F-9643-7BD92BF0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ED46-C7D0-47E8-9BD9-6E0EE41A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3E88-6BF7-48BC-B544-0F5AA2AD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2DCD-A852-4CBD-A2D1-79C9EA79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2CBF-74AF-4CDF-BABB-CAE25539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078B-B451-485A-9B4F-6316E60F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EB295-162F-46BC-B9A3-081101D1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F9A-C312-431C-81B0-0FB4AD39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770A-E9FA-459C-9622-3D40AD33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777A-39A7-465E-B34D-696C7C7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D5A0-E177-4A5E-B394-F27852A5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1EA0B-41D2-4219-BB8E-C8BF60CD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0AEE-7578-4805-9569-23057FDC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AFE60-D59D-45E8-8519-CA3EB0D3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03FD-CEAA-43C6-A1A4-A05982B0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56048-84F9-4901-A807-F712C2EC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C03C-F4A5-4C7D-8668-73329D79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3F93A-F43D-4B35-9917-0C89B23A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E45-B6DE-4724-97FA-F3E5E23E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9F89-C305-4EDC-8FF2-B7BA0F85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11FE-CFFD-4699-9D60-350419DD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D6C75-9B78-42A7-AB39-2243F63B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7EF66-5348-48AF-AF93-3FB1B33F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E6206-0E72-452B-8CA1-24D3975F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50008-A0EB-4D5E-A8EE-37FA41EC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5EF8-749D-49D1-95A0-E3DCD2C8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57A0-2A17-4481-B0F7-DB93DECE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133A-2C05-4E3A-8177-96251434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DA2C5-2F16-4ACD-8165-A9134A4C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F37-49B0-4E88-ACC4-62513861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FBBF-8624-48D2-B3DB-C3F72D24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9D7D7-BB76-461B-98BE-DE2ED8FE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8295D-8A48-4BE8-AEBD-AAD318F8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5344F-399A-40CE-8846-BCEB826B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3C1DA-BD2B-43A7-B8E6-B1724F4B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51953-C1CC-407A-8E34-B5FFE1B2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EFF04-B003-463B-AFA7-4C056BEA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D82FB-EA26-457D-ACE9-81E1653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A47A5-9DB8-40EA-AA64-76B1C480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C3C8-6090-44B8-A118-DD14F38E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DF7-D766-4438-9787-79E7D0DA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B17CF-CF50-4B09-9A3B-83219EF2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BDF-1BD4-49D1-99DC-CC2619F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F9E-5795-4C94-8ED6-C38FB6AA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355-CEF5-4264-B8DE-AD8623D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af1">
              <a:alpha val="33000"/>
            </a:srgbClr>
          </a:solidFill>
          <a:ln cap="rnd" w="3240">
            <a:solidFill>
              <a:srgbClr val="003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6c2e0"/>
            </a:solidFill>
            <a:miter/>
          </a:ln>
          <a:effectLst>
            <a:outerShdw dist="12600" dir="5400000" blurRad="0" rotWithShape="0">
              <a:srgbClr val="02316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5233-C359-42E9-B19C-25FA5EBC41D5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af1">
              <a:alpha val="33000"/>
            </a:srgbClr>
          </a:solidFill>
          <a:ln cap="rnd" w="3240">
            <a:solidFill>
              <a:srgbClr val="003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6c2e0"/>
            </a:solidFill>
            <a:miter/>
          </a:ln>
          <a:effectLst>
            <a:outerShdw dist="12600" dir="5400000" blurRad="0" rotWithShape="0">
              <a:srgbClr val="02316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A8DB-CEA7-41C0-BC08-6253947D2557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af1">
              <a:alpha val="33000"/>
            </a:srgbClr>
          </a:solidFill>
          <a:ln cap="rnd" w="3240">
            <a:solidFill>
              <a:srgbClr val="003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6c2e0"/>
            </a:solidFill>
            <a:miter/>
          </a:ln>
          <a:effectLst>
            <a:outerShdw dist="12600" dir="5400000" blurRad="0" rotWithShape="0">
              <a:srgbClr val="02316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F418-19F9-4E26-ACC1-4559223122ED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af1">
              <a:alpha val="33000"/>
            </a:srgbClr>
          </a:solidFill>
          <a:ln cap="rnd" w="3240">
            <a:solidFill>
              <a:srgbClr val="003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6c2e0"/>
            </a:solidFill>
            <a:miter/>
          </a:ln>
          <a:effectLst>
            <a:outerShdw dist="12600" dir="5400000" blurRad="0" rotWithShape="0">
              <a:srgbClr val="02316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091F-5F66-454C-AC75-C6CD188E55E0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af1">
              <a:alpha val="33000"/>
            </a:srgbClr>
          </a:solidFill>
          <a:ln cap="rnd" w="3240">
            <a:solidFill>
              <a:srgbClr val="003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6c2e0"/>
            </a:solidFill>
            <a:miter/>
          </a:ln>
          <a:effectLst>
            <a:outerShdw dist="12600" dir="5400000" blurRad="0" rotWithShape="0">
              <a:srgbClr val="02316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071e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0040a4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1f497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f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45A8-5B24-4FE4-A42A-8C685BB09AA9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ics4learning.com/" TargetMode="External"/><Relationship Id="rId2" Type="http://schemas.openxmlformats.org/officeDocument/2006/relationships/hyperlink" Target="http://school.discoveryeducation.com/clipart/" TargetMode="External"/><Relationship Id="rId3" Type="http://schemas.openxmlformats.org/officeDocument/2006/relationships/hyperlink" Target="http://www.photos8.com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/coop/cse?cx=004388073182546908344%3Afo-p7bauptg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idrex.org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ids.yahoo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fseek.com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WHPf00Jkqg" TargetMode="External"/><Relationship Id="rId2" Type="http://schemas.openxmlformats.org/officeDocument/2006/relationships/hyperlink" Target="http://kathyschrock.net/rbs3k/boolean/" TargetMode="External"/><Relationship Id="rId3" Type="http://schemas.openxmlformats.org/officeDocument/2006/relationships/hyperlink" Target="http://www.lib.monash.edu.au/vl/sstrat/sstrcon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ebquest.sdsu.edu/searching/fournets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oodletools.com/noodlequest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www.britannica.com/" TargetMode="External"/><Relationship Id="rId3" Type="http://schemas.openxmlformats.org/officeDocument/2006/relationships/hyperlink" Target="http://www.worldatlas.com/" TargetMode="External"/><Relationship Id="rId4" Type="http://schemas.openxmlformats.org/officeDocument/2006/relationships/hyperlink" Target="http://www.ipl.org/" TargetMode="External"/><Relationship Id="rId5" Type="http://schemas.openxmlformats.org/officeDocument/2006/relationships/hyperlink" Target="http://lii.org/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irtualsalt.com/search.htm" TargetMode="External"/><Relationship Id="rId2" Type="http://schemas.openxmlformats.org/officeDocument/2006/relationships/hyperlink" Target="http://www.noodletools.com/debbie/literacies/information/5locate/adviceengine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ddf"/>
                </a:solidFill>
                <a:latin typeface="Gill Sans MT"/>
              </a:rPr>
              <a:t>Sizzling Search Strategies for</a:t>
            </a:r>
            <a:br>
              <a:rPr sz="4400"/>
            </a:br>
            <a:r>
              <a:rPr b="0" lang="en-US" sz="4400" spc="-1" strike="noStrike">
                <a:solidFill>
                  <a:srgbClr val="f0eddf"/>
                </a:solidFill>
                <a:latin typeface="Gill Sans MT"/>
              </a:rPr>
              <a:t> Lower and Middle School</a:t>
            </a:r>
            <a:endParaRPr b="0" lang="en-US" sz="44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905120" y="4191120"/>
            <a:ext cx="5943600" cy="620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Lakeview Academy Summer Institute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Photos and Clip Art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47920" y="13716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Pics4learning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2"/>
              </a:rPr>
              <a:t>Discovery Education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3"/>
              </a:rPr>
              <a:t>Photos8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reate Your Own Search Engine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34960" y="1447920"/>
            <a:ext cx="7499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Google Custom Search Engin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943600" cy="37148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"/>
          <p:cNvSpPr/>
          <p:nvPr/>
        </p:nvSpPr>
        <p:spPr>
          <a:xfrm>
            <a:off x="1676520" y="6172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y Lower School Search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Lower School Search Engine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pic>
        <p:nvPicPr>
          <p:cNvPr id="283" name="Picture 7" descr="C:\Documents and Settings\melinda.reinhardt\Local Settings\Temporary Internet Files\Content.IE5\TQ6IRJMO\MCj02304250000[1].wmf"/>
          <p:cNvPicPr/>
          <p:nvPr/>
        </p:nvPicPr>
        <p:blipFill>
          <a:blip r:embed="rId1"/>
          <a:stretch/>
        </p:blipFill>
        <p:spPr>
          <a:xfrm>
            <a:off x="1752480" y="1600200"/>
            <a:ext cx="5867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28600"/>
            <a:ext cx="749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General Searches</a:t>
            </a:r>
            <a:br>
              <a:rPr sz="4300"/>
            </a:br>
            <a:r>
              <a:rPr b="0" lang="en-US" sz="2800" spc="-1" strike="noStrike">
                <a:solidFill>
                  <a:srgbClr val="f0eddf"/>
                </a:solidFill>
                <a:latin typeface="Gill Sans MT"/>
              </a:rPr>
              <a:t>(Google Safe Search for Kids)</a:t>
            </a:r>
            <a:endParaRPr b="0" lang="en-US" sz="28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371600" y="6019560"/>
            <a:ext cx="7562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www.kidrex.org/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8277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434960" y="5791320"/>
            <a:ext cx="7499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kids.yahoo.com/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655308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Academic Search Engine</a:t>
            </a:r>
            <a:br>
              <a:rPr sz="4300"/>
            </a:br>
            <a:r>
              <a:rPr b="0" lang="en-US" sz="2400" spc="-1" strike="noStrike">
                <a:solidFill>
                  <a:srgbClr val="f0eddf"/>
                </a:solidFill>
                <a:latin typeface="Gill Sans MT"/>
              </a:rPr>
              <a:t>(locates relevant academic search results from web pages, books, encyclopedias and journals) </a:t>
            </a:r>
            <a:endParaRPr b="0" lang="en-US" sz="24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34960" y="6019560"/>
            <a:ext cx="7499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www.refseek.com/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4166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Finding Specific Information</a:t>
            </a:r>
            <a:endParaRPr b="0" lang="en-US" sz="3600" spc="-1" strike="noStrike">
              <a:solidFill>
                <a:srgbClr val="f0eddf"/>
              </a:solidFill>
              <a:latin typeface="Gill Sans MT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7162920" cy="501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1523880" y="640080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kidsclick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371600" y="5791320"/>
            <a:ext cx="7562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http://www.factmonster.com/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7239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434960" y="594324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ttp://www.askkids.com/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980400" cy="43624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160020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 a Ques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Middle School Search Engine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pic>
        <p:nvPicPr>
          <p:cNvPr id="301" name="Picture 2" descr="C:\Documents and Settings\melinda.reinhardt\Local Settings\Temporary Internet Files\Content.IE5\XAC8R372\MCj03481410000[1].wmf"/>
          <p:cNvPicPr/>
          <p:nvPr/>
        </p:nvPicPr>
        <p:blipFill>
          <a:blip r:embed="rId1"/>
          <a:stretch/>
        </p:blipFill>
        <p:spPr>
          <a:xfrm>
            <a:off x="1905120" y="1600200"/>
            <a:ext cx="55623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What we will accomplish: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Review basic search tips and strategi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Become aware of the many resources available to assist with information gathering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Gather resources for teaching students to research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reate your own search engine!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Review online tuto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ake home lesson plan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0eddf"/>
                </a:solidFill>
                <a:latin typeface="Gill Sans MT"/>
              </a:rPr>
              <a:t>Meta Search Engines</a:t>
            </a:r>
            <a:br>
              <a:rPr sz="3900"/>
            </a:br>
            <a:r>
              <a:rPr b="0" lang="en-US" sz="2500" spc="-1" strike="noStrike">
                <a:solidFill>
                  <a:srgbClr val="f0eddf"/>
                </a:solidFill>
                <a:latin typeface="Gill Sans MT"/>
              </a:rPr>
              <a:t>(Combines Data from more than one Engine)</a:t>
            </a:r>
            <a:endParaRPr b="0" lang="en-US" sz="2500" spc="-1" strike="noStrike">
              <a:solidFill>
                <a:srgbClr val="f0eddf"/>
              </a:solidFill>
              <a:latin typeface="Gill Sans MT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933960" cy="43340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4"/>
          <p:cNvSpPr/>
          <p:nvPr/>
        </p:nvSpPr>
        <p:spPr>
          <a:xfrm>
            <a:off x="129528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triplify.com/ -  Google, Yahoo, MSN L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434960" y="51051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http://keyboardr.com/–search tool with predictive text that puts Google, Google Images, Wikipedia &amp; You Tube search all on one page.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4306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Visual Search Engine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371600" y="548604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</a:rPr>
              <a:t>http://www.search-cube.com/ - a new way to look at multiple results.  View 6 pages of results in one cube.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400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434960" y="5866920"/>
            <a:ext cx="74995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http://www.searchme.com/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6898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0eddf"/>
                </a:solidFill>
                <a:latin typeface="Gill Sans MT"/>
              </a:rPr>
              <a:t>Interface Mapping Metasearch  Engine</a:t>
            </a:r>
            <a:endParaRPr b="0" lang="en-US" sz="39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371600" y="6095880"/>
            <a:ext cx="7562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http://www.kartoo.com/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934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Ask a Question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434960" y="1447560"/>
            <a:ext cx="7499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Answer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72388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Evaluating Web Site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ow to Critically Evaluat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ample Workshee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Online Tutorial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5638680"/>
            <a:ext cx="7499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ttp://www.kidsclick.org/wows/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202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Online Tutorial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eaching Internet Research Strategi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Other Lesson Plans</a:t>
            </a: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e handou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Curriculum Guide (handout)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PreK –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ill Sans MT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- preloaded/predetermined websit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ill Sans MT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-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ill Sans MT"/>
              </a:rPr>
              <a:t>th 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- learn what the WWW is, what search engines are and how to search effectively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Middle School – student directed research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eddf"/>
                </a:solidFill>
                <a:latin typeface="Gill Sans MT"/>
              </a:rPr>
              <a:t>Search Strategies (handout)</a:t>
            </a:r>
            <a:endParaRPr b="0" lang="en-US" sz="48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371600" y="2057400"/>
            <a:ext cx="7562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Basic search tips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Gill Sans MT"/>
                <a:hlinkClick r:id="rId2"/>
              </a:rPr>
              <a:t>Boolean explained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Gill Sans MT"/>
                <a:hlinkClick r:id="rId3"/>
              </a:rPr>
              <a:t>Develop a search strategy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Google Advanced Search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34600" y="5791320"/>
            <a:ext cx="7480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webquest.sdsu.edu/searching/fournets.htm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1600200" y="1362240"/>
            <a:ext cx="6934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456840"/>
            <a:ext cx="749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Gill Sans MT"/>
              </a:rPr>
              <a:t>NETS Standard 3 – Research and Information Fluency</a:t>
            </a:r>
            <a:br>
              <a:rPr sz="3900"/>
            </a:br>
            <a:endParaRPr b="0" lang="en-US" sz="39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tudents apply digital tools to gather, evaluate,  and use information.  Students: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Gill Sans MT"/>
              </a:rPr>
              <a:t>plan strategies to guide inquir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Gill Sans MT"/>
              </a:rPr>
              <a:t>locate, organize, analyze, evaluate, synthesize, and ethically use information from a variety of sources and media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Gill Sans MT"/>
              </a:rPr>
              <a:t>Evaluate and select information sources and digital tools based on the appropriateness to specific task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Gill Sans MT"/>
              </a:rPr>
              <a:t>process data and report resul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Source Awarenes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47560" y="15235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Noodletoo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hoices of tools: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arch Engin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Encyclopedia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Online Librari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Almanac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Photograph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Online Encyclopedias &amp; Librarie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2"/>
              </a:rPr>
              <a:t>Encyclopedia Britannic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3"/>
              </a:rPr>
              <a:t>World Atla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4"/>
              </a:rPr>
              <a:t>Internet Public Library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5"/>
              </a:rPr>
              <a:t>Librarians’ Internet Index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0eddf"/>
                </a:solidFill>
                <a:latin typeface="Gill Sans MT"/>
              </a:rPr>
              <a:t>WWW Research Tools</a:t>
            </a:r>
            <a:endParaRPr b="0" lang="en-US" sz="4300" spc="-1" strike="noStrike">
              <a:solidFill>
                <a:srgbClr val="f0eddf"/>
              </a:solidFill>
              <a:latin typeface="Gill Sans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Virtualsal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 MT"/>
                <a:hlinkClick r:id="rId2"/>
              </a:rPr>
              <a:t>NoodleTools 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– Choose the best search for your information need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7:46:50Z</dcterms:created>
  <dc:creator>Fac - Montgomery,Bruce</dc:creator>
  <dc:description/>
  <dc:language>en-US</dc:language>
  <cp:lastModifiedBy>Fac - Montgomery,Bruce</cp:lastModifiedBy>
  <dcterms:modified xsi:type="dcterms:W3CDTF">2009-07-26T22:31:15Z</dcterms:modified>
  <cp:revision>162</cp:revision>
  <dc:subject/>
  <dc:title>Sizzling Search Strategies for Lower and Middle School</dc:title>
</cp:coreProperties>
</file>